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8FD4-D79C-4479-8DFA-6CFE0B580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000-0A32-4681-B932-54A5E83A6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9E19-93B9-41B7-9EEF-B0F0F05C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2F34-1CEF-40D6-89DE-DCAFA52E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4579-FCF7-4581-9CD2-5A75E5A3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9A47-8854-4409-905E-DC23B064F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40D9-2609-4C79-A18A-384545A6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5C61-D3E7-4111-A912-C95628140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       Slide </a:t>
            </a:r>
            <a:fld id="{C27850BA-06D5-4F30-8878-B6E7C3B1D37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762520"/>
            <a:ext cx="9144000" cy="109548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7D4E2C3-5EC0-487B-907F-175E9FA028B0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D02E43F1-1B0A-4497-B04B-C9CAB68411DF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9F242AE-C4E2-4490-B86E-953344903A1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66C47CD-18DC-4106-865D-FEB8F4A48E9D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6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02E3DC3-19FE-4441-89C1-8290D8948748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7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DB7E10E-3591-48AA-BE37-30599FC515B8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8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E58D019-9E48-45C5-BDF3-05038EAFB4BC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89000" y="5122800"/>
            <a:ext cx="87660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: Connecting to the World’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 12 Browser and Search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Browsing Histor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of links for sites recently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1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6DA171D-C9E0-4831-8DC9-2D71CDFE8DB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987480" y="2320920"/>
            <a:ext cx="80233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avorites 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5232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marks in Fire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of links fo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eb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87A97FA-3623-4880-9945-4B524B76270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5526000" y="1704960"/>
            <a:ext cx="3257640" cy="2314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1276200" y="3473280"/>
            <a:ext cx="2962440" cy="824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3"/>
          <a:stretch/>
        </p:blipFill>
        <p:spPr>
          <a:xfrm>
            <a:off x="2522520" y="4259160"/>
            <a:ext cx="2647800" cy="2340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"/>
          <p:cNvPicPr/>
          <p:nvPr/>
        </p:nvPicPr>
        <p:blipFill>
          <a:blip r:embed="rId4"/>
          <a:stretch/>
        </p:blipFill>
        <p:spPr>
          <a:xfrm>
            <a:off x="5724360" y="4259160"/>
            <a:ext cx="18766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"/>
          <p:cNvSpPr/>
          <p:nvPr/>
        </p:nvSpPr>
        <p:spPr>
          <a:xfrm>
            <a:off x="743040" y="457200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Straight Arrow Connector 3"/>
          <p:cNvCxnSpPr/>
          <p:nvPr/>
        </p:nvCxnSpPr>
        <p:spPr>
          <a:xfrm flipV="1">
            <a:off x="1361880" y="4505040"/>
            <a:ext cx="896040" cy="4370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392" name="TextBox 11"/>
          <p:cNvSpPr/>
          <p:nvPr/>
        </p:nvSpPr>
        <p:spPr>
          <a:xfrm>
            <a:off x="7724880" y="4724280"/>
            <a:ext cx="12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Straight Arrow Connector 12"/>
          <p:cNvCxnSpPr>
            <a:stCxn id="392" idx="0"/>
          </p:cNvCxnSpPr>
          <p:nvPr/>
        </p:nvCxnSpPr>
        <p:spPr>
          <a:xfrm flipH="1" flipV="1">
            <a:off x="7724520" y="4258800"/>
            <a:ext cx="619920" cy="465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earching for Information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n a Websit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90720" y="1495080"/>
            <a:ext cx="769608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an individual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search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2EB98DE-8BCA-44E1-BBCE-A3B64AD187C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703440" y="3195720"/>
            <a:ext cx="77580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earching for Information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n a Websit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20480" y="1600200"/>
            <a:ext cx="826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 single word used to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rch/G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hen press enter or one of these buttons, the search engine goes out to find what you are looking for based on your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 problem you want the search tool to resolve.  Search tools use mathematical logic to complete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swers to the query.  When search is complete, list of results (hits)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2F91626-D2A3-408B-B043-4DFE56E1552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echniques to Search Web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76120" y="1538280"/>
            <a:ext cx="85917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performs keyword searches to pinpoint conten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, Yahoo! Windows Live, Ask, RedZ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sults occur naturally based on search criteria and math applied by Google or another search engine prov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fluenced by advertising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sored Lin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inks may be shaded in color, be on the side, and/or near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rs paid for these sites to be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be most relevant to your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37315D5-8018-4A0E-9F7F-76B4DAD7604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earching Tip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99840"/>
            <a:ext cx="85629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ste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” brings u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kiing, skis, skier, sk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ation doesn’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word searches may result in lists that correlate to al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cottonwood canyon = Big Art festival in Western Canada on the shores of Cottonwood lake that is four miles up at a remote Canadian can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 searc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quotation marks: “big cottonwood cany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ces a search for the EXACT sequence of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 insignificant words are not sear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, I, it, the, 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ingle digits li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EBC4CCF-6669-4B52-A902-5A07EE3E1F5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3:29:38Z</dcterms:created>
  <dc:creator>Jean Bissell</dc:creator>
  <dc:description>Copyright 2006 South-Western/Thomson</dc:description>
  <dc:language>en-US</dc:language>
  <cp:lastModifiedBy>Lenessa Keehn</cp:lastModifiedBy>
  <dcterms:modified xsi:type="dcterms:W3CDTF">2011-04-18T14:52:46Z</dcterms:modified>
  <cp:revision>63</cp:revision>
  <dc:subject/>
  <dc:title>Slide 1</dc:title>
</cp:coreProperties>
</file>